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B95-DD34-44AB-A2DF-CD5DAA4B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586-6198-4498-90EC-16A54D4F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46C-B0A8-4692-B95F-957575C1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1B0-238F-4126-977B-AE77F2B0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F29-C6D6-4A88-B9F4-81504FC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563-D3FE-496A-BC5A-7BE93B2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120-4022-4395-A032-596BA464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2CE-B689-4347-8315-E5761D5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EC6-1863-4674-9540-5B448702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105-613A-4F3C-B0AC-4F7E52B0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DD0-94E9-49BD-B206-6A8FD70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EE5-8BC7-4FDC-8A74-83B1FF6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07817-3337-45CC-9AF9-601DF85AE43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05305-6346-4AD4-ADE9-CD5D7095179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4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1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3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4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37:33Z</dcterms:created>
  <dc:creator>최봉수</dc:creator>
  <dc:description/>
  <dc:language>en-US</dc:language>
  <cp:lastModifiedBy>맛있다 군만두</cp:lastModifiedBy>
  <dcterms:modified xsi:type="dcterms:W3CDTF">2024-10-01T03:06:58Z</dcterms:modified>
  <cp:revision>3</cp:revision>
  <dc:subject/>
  <dc:title>슬라이드 1</dc:title>
</cp:coreProperties>
</file>