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474D-73D7-488B-B487-12F78D37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4E8A-C0F5-438A-B7EC-605DA480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8794-F1C9-42CC-AC3B-F837CA51F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CAEB-224B-4103-93F9-E65E55DB8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5E9E-41CE-45C4-9B01-351DCA28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D9BE-5DD1-4647-AD4F-8F2BAEAE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6F2E-0A63-4A7A-9C7E-47E59CE0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2AC1-2B9C-4562-9118-6F4A9E84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3ECD-4716-470C-BF6E-70C05A59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FF16-71F6-4F74-8012-FB117E6B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FB21-FD84-461A-8B17-7CAAA034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B05D-A7F5-4D63-8AF1-C90E6A6A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3A0676-9549-4868-8A50-5581DE7BE42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A53391-6094-4F5A-8161-7B424B789909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4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" name="Picture 4" descr="165-1-1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" name="Picture 4" descr="165-1-2 copy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1" name="Picture 4" descr="165-후렴 copy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1" name="Picture 4" descr="165-2-1 copy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1" name="Picture 4" descr="165-2-2 copy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Picture 4" descr="165-후렴 copy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1" name="Picture 4" descr="165-3-1 copy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3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6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9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1" name="Picture 4" descr="165-3-2 copy"/>
          <p:cNvPicPr/>
          <p:nvPr/>
        </p:nvPicPr>
        <p:blipFill>
          <a:blip r:embed="rId5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3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6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9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1" name="Picture 4" descr="165-후렴 copy"/>
          <p:cNvPicPr/>
          <p:nvPr/>
        </p:nvPicPr>
        <p:blipFill>
          <a:blip r:embed="rId5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7:34:56Z</dcterms:created>
  <dc:creator>최봉수</dc:creator>
  <dc:description/>
  <dc:language>en-US</dc:language>
  <cp:lastModifiedBy>맛있다 군만두</cp:lastModifiedBy>
  <dcterms:modified xsi:type="dcterms:W3CDTF">2024-10-01T02:43:38Z</dcterms:modified>
  <cp:revision>5</cp:revision>
  <dc:subject/>
  <dc:title>슬라이드 1</dc:title>
</cp:coreProperties>
</file>