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FA98-E79C-4BA2-B4F7-62C25325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BABD-2A53-4B9E-BEEB-82500E0D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99F0-E0A1-4780-AA26-E78FFBF4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881B-79A1-414A-9772-E4434B00B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BFF3-5AC9-4E38-91B2-EBB12294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7D99-87CD-4B58-9F23-65A486BE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EA8B-D175-489A-A8EA-4E32C4FF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25E0-7DD9-4907-8692-D2685AD0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8ED2-90B0-49FC-8BB2-300432FC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1C63-D044-4212-9D4B-9116C090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2936-70A8-4A86-BDCA-37E6013B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284B-905D-4041-8FC3-C89767F2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42542-FDF2-4886-9F50-38DEDB9A1B4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2EC1F-9CD6-4328-B61B-46781A7AA857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image" Target="../media/image2.png"/><Relationship Id="rId7" Type="http://schemas.openxmlformats.org/officeDocument/2006/relationships/slide" Target="slide4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4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Picture 4" descr="165-1-1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" name="Picture 4" descr="165-1-2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Picture 4" descr="165-후렴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1" name="Picture 4" descr="165-2-1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Picture 4" descr="165-2-2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Picture 4" descr="165-후렴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9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1" name="Picture 4" descr="165-3-1 copy"/>
          <p:cNvPicPr/>
          <p:nvPr/>
        </p:nvPicPr>
        <p:blipFill>
          <a:blip r:embed="rId10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3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6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9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" name="Picture 4" descr="165-3-2 copy"/>
          <p:cNvPicPr/>
          <p:nvPr/>
        </p:nvPicPr>
        <p:blipFill>
          <a:blip r:embed="rId5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3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6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9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1" name="Picture 4" descr="165-후렴 copy"/>
          <p:cNvPicPr/>
          <p:nvPr/>
        </p:nvPicPr>
        <p:blipFill>
          <a:blip r:embed="rId5"/>
          <a:stretch/>
        </p:blipFill>
        <p:spPr>
          <a:xfrm>
            <a:off x="1522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7:34:56Z</dcterms:created>
  <dc:creator>최봉수</dc:creator>
  <dc:description/>
  <dc:language>en-US</dc:language>
  <cp:lastModifiedBy>맛있다 군만두</cp:lastModifiedBy>
  <dcterms:modified xsi:type="dcterms:W3CDTF">2024-10-01T02:43:38Z</dcterms:modified>
  <cp:revision>5</cp:revision>
  <dc:subject/>
  <dc:title>슬라이드 1</dc:title>
</cp:coreProperties>
</file>