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037-08A4-402B-A0DC-AFE39DDF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84E-5DAF-4DD1-8587-F1704737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8C1-D125-44ED-8A57-5228A90B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4C4-FFD4-4F5A-8CCA-EDE7DDBB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3E9-2586-4F03-871F-41270E08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2EB-3E32-4BEC-8128-819D5242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2DC-599B-43BB-994F-A2A0EF2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16A-2921-48EF-9A7E-4C9E44F0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CF9-F7EF-4C78-A665-8D108BB9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48C-5A2A-40C1-A978-BCD848E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079-7F53-41AC-8D15-9FDFE35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F49-7CB0-479C-B8D1-724658E4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8DCA7-1328-42E8-8B1F-0C0DA598FC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D839A-E085-4ACB-B396-A62839D672A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5:49Z</dcterms:created>
  <dc:creator>최봉수</dc:creator>
  <dc:description/>
  <dc:language>en-US</dc:language>
  <cp:lastModifiedBy>맛있다 군만두</cp:lastModifiedBy>
  <dcterms:modified xsi:type="dcterms:W3CDTF">2023-07-13T10:22:30Z</dcterms:modified>
  <cp:revision>3</cp:revision>
  <dc:subject/>
  <dc:title>슬라이드 1</dc:title>
</cp:coreProperties>
</file>