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83F-4423-4D8F-ACFB-A5E5319F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AEB-5487-4064-A69C-1221FC3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663-9436-4FFB-A066-75A6D062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463-06C5-493A-AEC3-2AF72BEA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289-D832-4EAB-9538-CFC4B061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C0C-89A2-421A-951F-D137AC45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A4B-91D6-4D82-80B7-FF034BC4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9BE-047F-42E8-A458-1EB94CD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987-360A-4C36-8FBF-71654D5C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3B7-1E62-485C-9E9A-C3A067C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8B7-FE41-4B30-B8D2-122E476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21A-424F-4516-A077-15CEAC0A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00CC1-6A95-4945-B28C-2D427B688A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23A0D-7902-46A9-AEAD-7EDC46F3024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" Target="slide7.xml"/><Relationship Id="rId17" Type="http://schemas.openxmlformats.org/officeDocument/2006/relationships/image" Target="../media/image3.png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5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1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1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2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24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27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30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4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43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4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49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253" name="Picture 6" descr=""/>
            <p:cNvPicPr/>
            <p:nvPr/>
          </p:nvPicPr>
          <p:blipFill>
            <a:blip r:embed="rId2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256" name="Picture 9" descr=""/>
            <p:cNvPicPr/>
            <p:nvPr/>
          </p:nvPicPr>
          <p:blipFill>
            <a:blip r:embed="rId3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62" name="Picture 15" descr=""/>
            <p:cNvPicPr/>
            <p:nvPr/>
          </p:nvPicPr>
          <p:blipFill>
            <a:blip r:embed="rId5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65" name="Picture 18" descr=""/>
            <p:cNvPicPr/>
            <p:nvPr/>
          </p:nvPicPr>
          <p:blipFill>
            <a:blip r:embed="rId6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9"/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68" name="Picture 21" descr=""/>
            <p:cNvPicPr/>
            <p:nvPr/>
          </p:nvPicPr>
          <p:blipFill>
            <a:blip r:embed="rId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22"/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6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72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75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78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9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97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0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0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0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10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13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16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2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2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2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29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3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35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3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4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4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48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51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54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6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6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67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7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73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7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8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18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186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189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192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9128160" y="6310440"/>
            <a:ext cx="423720" cy="431640"/>
            <a:chOff x="9128160" y="6310440"/>
            <a:chExt cx="423720" cy="431640"/>
          </a:xfrm>
        </p:grpSpPr>
        <p:pic>
          <p:nvPicPr>
            <p:cNvPr id="1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128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7">
              <a:hlinkClick r:id="rId4" action="ppaction://hlinksldjump"/>
            </p:cNvPr>
            <p:cNvSpPr/>
            <p:nvPr/>
          </p:nvSpPr>
          <p:spPr>
            <a:xfrm>
              <a:off x="9256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693280" y="6310440"/>
            <a:ext cx="423720" cy="431640"/>
            <a:chOff x="8693280" y="6310440"/>
            <a:chExt cx="423720" cy="431640"/>
          </a:xfrm>
        </p:grpSpPr>
        <p:pic>
          <p:nvPicPr>
            <p:cNvPr id="1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3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0">
              <a:hlinkClick r:id="rId7" action="ppaction://hlinksldjump"/>
            </p:cNvPr>
            <p:cNvSpPr/>
            <p:nvPr/>
          </p:nvSpPr>
          <p:spPr>
            <a:xfrm>
              <a:off x="8821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8258040" y="6310440"/>
            <a:ext cx="423720" cy="431640"/>
            <a:chOff x="8258040" y="6310440"/>
            <a:chExt cx="423720" cy="431640"/>
          </a:xfrm>
        </p:grpSpPr>
        <p:pic>
          <p:nvPicPr>
            <p:cNvPr id="2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258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3">
              <a:hlinkClick r:id="rId10" action="ppaction://hlinksldjump"/>
            </p:cNvPr>
            <p:cNvSpPr/>
            <p:nvPr/>
          </p:nvSpPr>
          <p:spPr>
            <a:xfrm>
              <a:off x="8386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7824960" y="6310440"/>
            <a:ext cx="423720" cy="431640"/>
            <a:chOff x="7824960" y="6310440"/>
            <a:chExt cx="423720" cy="431640"/>
          </a:xfrm>
        </p:grpSpPr>
        <p:pic>
          <p:nvPicPr>
            <p:cNvPr id="205" name="Picture 15" descr=""/>
            <p:cNvPicPr/>
            <p:nvPr/>
          </p:nvPicPr>
          <p:blipFill>
            <a:blip r:embed="rId11"/>
            <a:stretch/>
          </p:blipFill>
          <p:spPr>
            <a:xfrm>
              <a:off x="7824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6">
              <a:hlinkClick r:id="rId12" action="ppaction://hlinksldjump"/>
            </p:cNvPr>
            <p:cNvSpPr/>
            <p:nvPr/>
          </p:nvSpPr>
          <p:spPr>
            <a:xfrm>
              <a:off x="7953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9561600" y="6308640"/>
            <a:ext cx="423720" cy="431640"/>
            <a:chOff x="9561600" y="6308640"/>
            <a:chExt cx="423720" cy="431640"/>
          </a:xfrm>
        </p:grpSpPr>
        <p:pic>
          <p:nvPicPr>
            <p:cNvPr id="20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56160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9">
              <a:hlinkClick r:id="rId15" action="ppaction://hlinksldjump"/>
            </p:cNvPr>
            <p:cNvSpPr/>
            <p:nvPr/>
          </p:nvSpPr>
          <p:spPr>
            <a:xfrm>
              <a:off x="968976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9993240" y="6310440"/>
            <a:ext cx="423720" cy="431640"/>
            <a:chOff x="9993240" y="6310440"/>
            <a:chExt cx="423720" cy="431640"/>
          </a:xfrm>
        </p:grpSpPr>
        <p:pic>
          <p:nvPicPr>
            <p:cNvPr id="211" name="Picture 2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99932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>
              <a:hlinkClick r:id="rId18" action="ppaction://hlinksldjump"/>
            </p:cNvPr>
            <p:cNvSpPr/>
            <p:nvPr/>
          </p:nvSpPr>
          <p:spPr>
            <a:xfrm>
              <a:off x="101214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35:49Z</dcterms:created>
  <dc:creator>최봉수</dc:creator>
  <dc:description/>
  <dc:language>en-US</dc:language>
  <cp:lastModifiedBy>맛있다 군만두</cp:lastModifiedBy>
  <dcterms:modified xsi:type="dcterms:W3CDTF">2023-07-13T10:22:30Z</dcterms:modified>
  <cp:revision>3</cp:revision>
  <dc:subject/>
  <dc:title>슬라이드 1</dc:title>
</cp:coreProperties>
</file>