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F77-83E9-41F8-A43C-02601F26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866-0429-49C7-ADC3-DF95BECD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D72-C9D5-4E00-910B-1028A81A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DD2-6730-4FB4-9282-9362D74B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683-2B47-450D-9850-76914DBC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370-117A-4FD6-8B05-0A2E9AE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14D-EB74-454A-BE1B-7D3FA995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EEA-C5A0-4005-A031-22D5CE3D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B6A-803D-4FA6-95AB-6254F5E6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20E-BE1B-481C-819E-A7CAEE0A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4AC-8AEA-4A13-AD1E-3B269BD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CD6-B02E-4DCD-B6D6-73DEC814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B938A-7922-461E-BB09-8D04DAB1B4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6A2C2-CC13-4B24-9A29-B97EB4B1CD2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7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8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70" name="Picture 10" descr=""/>
            <p:cNvPicPr/>
            <p:nvPr/>
          </p:nvPicPr>
          <p:blipFill>
            <a:blip r:embed="rId6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1">
              <a:hlinkClick r:id="rId7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8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8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9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9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1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2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3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4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5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4:20:26Z</dcterms:created>
  <dc:creator>최봉수</dc:creator>
  <dc:description/>
  <dc:language>en-US</dc:language>
  <cp:lastModifiedBy>맛있다 군만두</cp:lastModifiedBy>
  <dcterms:modified xsi:type="dcterms:W3CDTF">2023-07-13T08:54:49Z</dcterms:modified>
  <cp:revision>3</cp:revision>
  <dc:subject/>
  <dc:title>슬라이드 1</dc:title>
</cp:coreProperties>
</file>