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EE8B-5FC2-446C-BB51-D6BE4D54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9E6-BE1E-4E8C-AAF9-9C8D7FFB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B58-529E-483C-958A-BE2AFEDF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D0E-CE72-4355-BE99-A7DA3B74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E1E-777D-4F1D-B343-86BE049B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767-0216-42CC-818A-9629273C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396-CACD-48F5-AE3F-D191B9C2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8B6-5532-43BF-B548-2F9E9CAC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814-EEAD-4861-9BFF-71B91241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C4F-006D-4506-9FD3-ABFBF50F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A2D-2826-4AFA-A4F9-512684FA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0EA-5938-4637-B762-3C5BF67A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DEAB2-B037-467C-B58F-372B6210497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E4E43-D1B9-4C92-BFCF-83319CAE395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" Target="slide6.xml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7" name="Picture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8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70" name="Picture 10" descr=""/>
            <p:cNvPicPr/>
            <p:nvPr/>
          </p:nvPicPr>
          <p:blipFill>
            <a:blip r:embed="rId6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1">
              <a:hlinkClick r:id="rId7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8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8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9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9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11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2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3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4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5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4:20:26Z</dcterms:created>
  <dc:creator>최봉수</dc:creator>
  <dc:description/>
  <dc:language>en-US</dc:language>
  <cp:lastModifiedBy>맛있다 군만두</cp:lastModifiedBy>
  <dcterms:modified xsi:type="dcterms:W3CDTF">2023-07-13T08:54:49Z</dcterms:modified>
  <cp:revision>3</cp:revision>
  <dc:subject/>
  <dc:title>슬라이드 1</dc:title>
</cp:coreProperties>
</file>